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B60-D55A-4C77-99CC-58EEF8C9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988-EBA2-4543-95AF-D1AFDFA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8C2-EB2E-46BF-873C-BD69651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789-4138-4C73-9489-19397CCF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9AE-17F2-4D29-AA66-BBD22DC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F2F-E1C8-49DB-889E-679E298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36C-6F01-47A8-9337-0AF4EF28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04D-51C1-49EF-9C61-0D63E21B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BE5-732A-4BDA-972C-A01822F6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A6D-92EF-446B-A68A-3AA0A4B2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E3-8C63-478F-85D1-EED70A4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FFE-F2EC-4557-A091-5770BC7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D54-ED21-444E-8BDA-9CE107A9E1A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90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 chvála tebe patrí le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esť, chvála tebe patrí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ilosť novú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ľud svoj k sebe voláš zas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oču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mel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voj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pásn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hla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ď vďaka ti, ó, Pres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ä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nám vždy ideš v ústre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c slávy raja zb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byť smieme s tebou bla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iež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elen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ie pozdrav tvojej dobr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 deň čo deň nech cíti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na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tebe patrí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15:25Z</dcterms:modified>
  <cp:revision>24</cp:revision>
  <dc:subject/>
  <dc:title>Je veľký náš Pán, on slávy je Kráľ Nech do všetkých strán  spev vrúcnych znie chvál.</dc:title>
</cp:coreProperties>
</file>